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jpeg" ContentType="image/jpeg"/>
  <Override PartName="/ppt/media/image40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7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1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2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3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4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5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6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76720" y="3746520"/>
            <a:ext cx="3620880" cy="9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5000"/>
          </a:bodyPr>
          <a:p>
            <a:pPr marL="372600" indent="-24840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1" marL="696600" indent="-2487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2" marL="1020240" indent="-24840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3" marL="1353600" indent="-2487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4" marL="1686960" indent="-2487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5" marL="1686960" indent="-2487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6" marL="1686960" indent="-2487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5931000" y="1942920"/>
            <a:ext cx="323856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9000"/>
          </a:bodyPr>
          <a:p>
            <a:pPr marL="342720" indent="-22860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1" marL="640800" indent="-2289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2" marL="938520" indent="-22860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3" marL="1245240" indent="-2289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4" marL="1551960" indent="-2289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5" marL="1551960" indent="-2289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6" marL="1551960" indent="-2289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6000"/>
          </a:bodyPr>
          <a:p>
            <a:pPr marL="498240" indent="-339480"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1" marL="912600" indent="-339480"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2" marL="1327320" indent="-339480"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3" marL="1753920" indent="-339840"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4" marL="2180520" indent="-339480"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5" marL="2180520" indent="-339480"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6" marL="2180520" indent="-339480"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90360" y="711000"/>
            <a:ext cx="8178840" cy="619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2000"/>
          </a:bodyPr>
          <a:p>
            <a:pPr marL="477360" indent="-325440">
              <a:spcBef>
                <a:spcPts val="4700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1" marL="874440" indent="-325440">
              <a:spcBef>
                <a:spcPts val="4700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2" marL="1271880" indent="-325440">
              <a:spcBef>
                <a:spcPts val="4700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3" marL="1680840" indent="-325800">
              <a:spcBef>
                <a:spcPts val="4700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4" marL="2089800" indent="-325440">
              <a:spcBef>
                <a:spcPts val="4700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5" marL="2089800" indent="-325440">
              <a:spcBef>
                <a:spcPts val="4700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6" marL="2089800" indent="-325440">
              <a:spcBef>
                <a:spcPts val="4700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87028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b9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567684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b9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2760" y="127008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82760" y="405144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1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2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3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4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5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lvl="6" algn="ctr">
              <a:spcBef>
                <a:spcPts val="201"/>
              </a:spcBef>
              <a:buClr>
                <a:srgbClr val="42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b9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5000"/>
          </a:bodyPr>
          <a:p>
            <a:pPr marL="372600" indent="-24840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1" marL="696600" indent="-2487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2" marL="1020240" indent="-24840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3" marL="1353600" indent="-2487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4" marL="1686960" indent="-2487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5" marL="1686960" indent="-2487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lvl="6" marL="1686960" indent="-248760">
              <a:spcBef>
                <a:spcPts val="3399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image" Target="../media/image17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Graphics on the</a:t>
            </a:r>
            <a:br>
              <a:rPr sz="5000"/>
            </a:b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ommodore 64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360" y="4051440"/>
            <a:ext cx="8178840" cy="2273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Graphics on a 16kb Shoestring Budget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by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229"/>
                </a:solidFill>
                <a:latin typeface="Hoefler Text"/>
              </a:rPr>
              <a:t>DeeKay/Crest</a:t>
            </a:r>
            <a:endParaRPr b="0" lang="en-US" sz="3600" spc="-1" strike="noStrike">
              <a:solidFill>
                <a:srgbClr val="42422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29"/>
                </a:solidFill>
                <a:latin typeface="Hoefler Text"/>
              </a:rPr>
              <a:t>Apr 15th, 2006</a:t>
            </a:r>
            <a:endParaRPr b="0" lang="en-US" sz="1800" spc="-1" strike="noStrike">
              <a:solidFill>
                <a:srgbClr val="42422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Standard Bitmap Hires/Multicolor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Hires: 2 colors per char, colors are stored in ScreenRAM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creenRAM: length $0400, fixed positions in active bank: $x000, $x400, $x800, $xc00 etc., colors are high and low nibble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ulticolor: 4 colors per char, ScreenRAM + ColorRAM + Background ($d021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ColorRAM: length $0400, always on $d800, low-nibble only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Sprit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2000"/>
          </a:bodyPr>
          <a:p>
            <a:pPr marL="524160" indent="-32544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24*21 pixels (hires) = 63 byte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4160" indent="-32544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equential byte-order by line, no char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4160" indent="-32544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8 sprites, can be multiplexed (horizontally no more than 8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4160" indent="-32544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ulticolor/Hires can be set individually per sprite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4160" indent="-32544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Hires: one color plus transparent background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4160" indent="-32544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ulticolor: 3 colors plus transp. background, 2 colors fixed for all sprites, one individual color per Sprite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1701720" y="495360"/>
            <a:ext cx="1333440" cy="11682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"/>
          <a:stretch/>
        </p:blipFill>
        <p:spPr>
          <a:xfrm>
            <a:off x="6883560" y="495360"/>
            <a:ext cx="977760" cy="1168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178840" cy="1104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Sprit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90360" y="1092240"/>
            <a:ext cx="817884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Can be expanded to twice the width and/or height (pixels scale accordingly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Collision between sprites or sprites and chars can be detected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Trickery! Sprite 1 can be behind Bitmap/Char, but </a:t>
            </a:r>
            <a:r>
              <a:rPr b="0" i="1" lang="en-US" sz="2800" spc="-1" strike="noStrike">
                <a:solidFill>
                  <a:srgbClr val="424229"/>
                </a:solidFill>
                <a:latin typeface="Hoefler Text"/>
              </a:rPr>
              <a:t>above</a:t>
            </a: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 Sprite 2 which itself is above the bitmap. This essentially cuts a hole in Sprite 2 letting the bitmap shine through -&gt; EOR-effects and more!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Sprite-”Cookiecutter”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168520" y="5473800"/>
            <a:ext cx="3987720" cy="1079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21600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29"/>
                </a:solidFill>
                <a:latin typeface="Arial"/>
                <a:ea typeface="Arial"/>
              </a:rPr>
              <a:t>Sprite 1 still in front of Sprite 2 (but behind Background!)</a:t>
            </a:r>
            <a:endParaRPr b="0" lang="en-US" sz="1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5384880" y="1422360"/>
            <a:ext cx="3546360" cy="410220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368280" y="5562720"/>
            <a:ext cx="4851360" cy="635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29"/>
                </a:solidFill>
                <a:latin typeface="Arial"/>
                <a:ea typeface="Arial"/>
              </a:rPr>
              <a:t>Sprite 1 in front of Background and Sprite 2</a:t>
            </a:r>
            <a:endParaRPr b="0" lang="en-US" sz="1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3"/>
          <a:stretch/>
        </p:blipFill>
        <p:spPr>
          <a:xfrm>
            <a:off x="1028880" y="1442880"/>
            <a:ext cx="3517560" cy="406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Sprite-Priority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prites can be above or behind bitmap/char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Behind set bits in hires, in Multicolor only behind $d023 (or ScreenRAM Low-Nibble) &amp; $d800 (ColorRAM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Tricks possible with covering 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harset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6000"/>
          </a:bodyPr>
          <a:p>
            <a:pPr marL="546840" indent="-3394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256 characters per char, 8 bytes per character, sequential store by 8*8 char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46840" indent="-3394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Length: $0800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46840" indent="-3394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Located on $x000, $x800, $xc00 of active bank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46840" indent="-3394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Hires: One color out of 16 per char (ColorRAM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46840" indent="-3394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ulticolor: 2 fixed colors + $d021 + ColorRAM (only first 8 colors, second 8 are the same only in hires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harset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343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29"/>
                </a:solidFill>
                <a:latin typeface="Hoefler Text"/>
              </a:rPr>
              <a:t>Screen for charset: same as ScreenRAM in Bitmap, on $x400 boundarie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343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29"/>
                </a:solidFill>
                <a:latin typeface="Hoefler Text"/>
              </a:rPr>
              <a:t>New mode besides Multicolor/Hires: ECM: 64 Hires-Chars where each can have one of 4 different background colors (Multicolor-Registers, $d021-24). On top of that is each char’s ColorRAM.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Making Graphics on the C64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90360" y="2184120"/>
            <a:ext cx="8178840" cy="5079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marL="529920" indent="-32904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16 Color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9920" indent="-32904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any ways</a:t>
            </a:r>
            <a:br>
              <a:rPr sz="2800"/>
            </a:b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to go from black to white: Lots of possible transition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9920" indent="-32904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even Color-Pairs with same luminance for all colors plus black and white (a/c/e/5: special case!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9920" indent="-32904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ensible choice of colors for each char: choose colors that you can use often, don’t use colors from the same pair if you’re starved of color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3517920" y="1727280"/>
            <a:ext cx="615960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34329"/>
                </a:solidFill>
                <a:latin typeface="Hoefler Text"/>
              </a:rPr>
              <a:t>Making Graphics on the C64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Don’t choose the most often used color as $d021, choose the color that you can use as substitute most often: No black, no white, cannot be used as substitute or for Antialiasing. Good choice because color-less: One of the 3 grey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Predominantly for Bitmap, but same goes for choice of Sprite- and Char-Multicolor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34329"/>
                </a:solidFill>
                <a:latin typeface="Hoefler Text"/>
              </a:rPr>
              <a:t>Old VIC special</a:t>
            </a:r>
            <a:endParaRPr b="0" lang="en-US" sz="48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Very early C64s have a different VIC. Only five different luminances instead of nine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any colors are the same luminance -&gt; Color-fades look worse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Not very many in existence, so dont worry too much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Ask Widdy! ;-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Part 1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eet the Pixel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Advanced c64-Graphic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ost advanced graphicmodes can be reached through various tricks that change VIC-registers at the right time while the graphic is being displayed (c64 version of Pixelshaders! ;-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ore colors or higher resolution, but hard to use in Demoparts with compute-intensive Effects, because it takes away rastertime while GFX is being displayed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Advanced c64-Graphic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7000"/>
          </a:bodyPr>
          <a:p>
            <a:pPr marL="552600" indent="-3430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LI: Flexible Line Interpreter, two new colors (ScreenRAM) every line instead of every 8th line, has FLI-Bug (solid light grey, 3 chars wide) at the left of the screen, either Hires (AFLI or Hi-FLI) or Multicolor; Editors: Blackmail/CPU Editor, FLIP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52600" indent="-3430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IFLI: Interlaced FLI, same as FLI Multicolor, only interlaced (2 screens alternating) and with a 1-pixel x-shift every frame to give it a pseudo-hires look; Editors: Funpaint, Gunpaint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Advanced c64 Graphic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6000"/>
          </a:bodyPr>
          <a:p>
            <a:pPr marL="546840" indent="-3394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prites overlay modes: SHF, SHIF (SHF interlace), SHF-XL: Hires-FLI-Bitmap with sprite-layer(s) over it for more colors; dont cover the whole screen, but are very high resolution; Editors: Crest SHF/SHIF/SHF-XL Editor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46840" indent="-3394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prite underlay modes: UFLI and UIFLI (UFLI Interlace): X-expanded Hires-sprite-layer (twice as wide pixels) underneath the set pixels of a Hires-FLI-Bitmap (FLI every second line only); High resolution, fairly colorful, covers almost the full screen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Advanced c64-Graphic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343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29"/>
                </a:solidFill>
                <a:latin typeface="Hoefler Text"/>
              </a:rPr>
              <a:t>Border-GFX: VIC knows 23x38 char border for smooth scrolling. Fool the VIC by changing the registers into believing it switched on the border already when the rasterbeam reaches the border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buClr>
                <a:srgbClr val="4343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29"/>
                </a:solidFill>
                <a:latin typeface="Hoefler Text"/>
              </a:rPr>
              <a:t>Open border has limited GFX-capabilities: Only $d021 &amp; sprites, no chars, no standard bitmap, only one black repeating hires Ghostbyte in the upper/lower border (last Byte in the active Bank) plus one $d016-byte when you tear open $d021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Free Advanced Graphic Mod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7000"/>
          </a:bodyPr>
          <a:p>
            <a:pPr marL="552600" indent="-3430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Advanced GFX-modes can be done without FLI, meaning the rastertime while the graphic is displayed can be used for other things.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52600" indent="-3430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No FLI means less color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52600" indent="-3430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prite-overlay/underlay with Bitmap: Standard Bitmap (Multicolor or Hires), only Sprites need to be multiplexed every 21 Rasterline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52600" indent="-3430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Drazlace: Interlaced normal Bitmaps, with or without $d016 1-Pixel-x-shift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Linear Framebuffer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558360" indent="-3466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How can I output my Code without the hassle of adressing the non-linear structure of c64-gfx?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58360" indent="-3466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A nearly linear framebuffer can be emulated with various tricks, mostly in the end being some sort of a 4x4 pixel structure and 1/4 FLI.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58360" indent="-3466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ome effects can be emulated with avoiding heavy calculation and relying on VIC-tricks instead, mostly also using Hi-Res graphics..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Examples of c64 Graphic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672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Hooray! Pwetty pictures time!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Exampl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739520" y="5575320"/>
            <a:ext cx="8178840" cy="736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tandard 4-color GFX (most often char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4991040" y="2019240"/>
            <a:ext cx="4064040" cy="15559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4991040" y="3835440"/>
            <a:ext cx="4064040" cy="155556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4"/>
          <a:stretch/>
        </p:blipFill>
        <p:spPr>
          <a:xfrm>
            <a:off x="1994040" y="2502000"/>
            <a:ext cx="247644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90360" y="-2556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Exampl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90360" y="6552720"/>
            <a:ext cx="8178840" cy="685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tandard Multicolor (160x200, no interlace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5092560" y="1257480"/>
            <a:ext cx="4064040" cy="253980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749160" y="3975120"/>
            <a:ext cx="4064040" cy="25401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4"/>
          <a:stretch/>
        </p:blipFill>
        <p:spPr>
          <a:xfrm>
            <a:off x="5041800" y="4000680"/>
            <a:ext cx="4165560" cy="247644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5"/>
          <a:stretch/>
        </p:blipFill>
        <p:spPr>
          <a:xfrm>
            <a:off x="749160" y="1257480"/>
            <a:ext cx="4064040" cy="2539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Exampl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90360" y="6172200"/>
            <a:ext cx="8178840" cy="736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tandard Multicolor, non-interlaced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444600" y="1879560"/>
            <a:ext cx="4064040" cy="254016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4838760" y="1866960"/>
            <a:ext cx="4292640" cy="8128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4"/>
          <a:stretch/>
        </p:blipFill>
        <p:spPr>
          <a:xfrm>
            <a:off x="152280" y="4610160"/>
            <a:ext cx="5384880" cy="111744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5"/>
          <a:stretch/>
        </p:blipFill>
        <p:spPr>
          <a:xfrm>
            <a:off x="5867280" y="3162240"/>
            <a:ext cx="4064040" cy="25401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6"/>
          <a:stretch/>
        </p:blipFill>
        <p:spPr>
          <a:xfrm>
            <a:off x="3048120" y="2565360"/>
            <a:ext cx="406404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Basic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1002960"/>
            <a:ext cx="8178840" cy="6032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PAL-VIC: 312 Rasterlines, no halfpictures (identical lines in both half-pictures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4 Banks à 16KB, all displayed VIC-data needs to be within the same bank (Bitmap, Chars, Sprites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Rasterbeam goes linewise from the top left to the lower right, VIC also works that way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320x200 screen plus border (2 sprites=6 chars each on left/right, about 2 sprites upper/lower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-1384560" y="49536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Exampl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990360" y="6184440"/>
            <a:ext cx="8178840" cy="723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LI Multicolor, non-interlaced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546120" y="4749840"/>
            <a:ext cx="3936960" cy="13842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3"/>
          <a:stretch/>
        </p:blipFill>
        <p:spPr>
          <a:xfrm>
            <a:off x="482760" y="2031840"/>
            <a:ext cx="4063680" cy="242604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4"/>
          <a:stretch/>
        </p:blipFill>
        <p:spPr>
          <a:xfrm>
            <a:off x="5041800" y="596880"/>
            <a:ext cx="3822840" cy="25909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5"/>
          <a:stretch/>
        </p:blipFill>
        <p:spPr>
          <a:xfrm>
            <a:off x="5067360" y="3556080"/>
            <a:ext cx="4064040" cy="25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90360" y="-12708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Exampl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90360" y="6515280"/>
            <a:ext cx="8178840" cy="863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Interlaced FLI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660240" y="1168560"/>
            <a:ext cx="4064040" cy="25398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5359320" y="3949560"/>
            <a:ext cx="3772080" cy="254016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4"/>
          <a:stretch/>
        </p:blipFill>
        <p:spPr>
          <a:xfrm>
            <a:off x="647640" y="3936960"/>
            <a:ext cx="4089600" cy="256536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5"/>
          <a:stretch/>
        </p:blipFill>
        <p:spPr>
          <a:xfrm>
            <a:off x="5219640" y="1168560"/>
            <a:ext cx="4064040" cy="25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Exampl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90360" y="6019560"/>
            <a:ext cx="8178840" cy="888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Interlaced FLI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533520" y="2540160"/>
            <a:ext cx="4064040" cy="25398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5257800" y="2540160"/>
            <a:ext cx="3492360" cy="25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90360" y="-25560"/>
            <a:ext cx="8178840" cy="1231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Exampl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90360" y="6426000"/>
            <a:ext cx="8178840" cy="888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Multicolor Interlace aka Drazlace (”free” advanced mode!)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838080" y="3924360"/>
            <a:ext cx="4140360" cy="25398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3"/>
          <a:stretch/>
        </p:blipFill>
        <p:spPr>
          <a:xfrm>
            <a:off x="5283360" y="3924360"/>
            <a:ext cx="4051080" cy="253980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4"/>
          <a:stretch/>
        </p:blipFill>
        <p:spPr>
          <a:xfrm>
            <a:off x="876240" y="1079640"/>
            <a:ext cx="4064040" cy="253980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5"/>
          <a:stretch/>
        </p:blipFill>
        <p:spPr>
          <a:xfrm>
            <a:off x="5283360" y="1079640"/>
            <a:ext cx="4063680" cy="2539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-105444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Exampl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90360" y="5829480"/>
            <a:ext cx="8178840" cy="1079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UFLI (320x200, 1/2 Hires-FLI plus Sprite-Layer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355680" y="2082960"/>
            <a:ext cx="4876560" cy="34416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3"/>
          <a:stretch/>
        </p:blipFill>
        <p:spPr>
          <a:xfrm>
            <a:off x="5727600" y="762120"/>
            <a:ext cx="3835440" cy="26161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4"/>
          <a:stretch/>
        </p:blipFill>
        <p:spPr>
          <a:xfrm>
            <a:off x="5676840" y="3657600"/>
            <a:ext cx="393696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90360" y="52056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Exampl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308240" y="3644640"/>
            <a:ext cx="2412720" cy="863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Hires-FLI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1447920" y="2413080"/>
            <a:ext cx="4064040" cy="127008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6616800" y="2133720"/>
            <a:ext cx="2489040" cy="42926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1650960" y="5207040"/>
            <a:ext cx="491508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  <a:ea typeface="Hoefler Text"/>
              </a:rPr>
              <a:t>Super-Hires-Interlace FLI (SHIF, Interlaced Hires-FLI with 2 Hires Sprite-Layers, 96x112 pixels only)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Exampl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90360" y="4889160"/>
            <a:ext cx="8178840" cy="2019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UIFLI: UFLI Interlace, the Crest of c64 Graphics: Very many colors, awesome transitions, much detail, covers whole screen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2540160" y="1549440"/>
            <a:ext cx="507996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64 Graphics with PC/Mac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672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Pixelling, converting and displaying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Areas of usage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11360" y="1320840"/>
            <a:ext cx="8178480" cy="5765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Do Screendesigns for your coders!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Display c64-Graphics with Xnview (Lin/Mac/Win), ACDsee+Plugins (Win), ShowVIC or various plugins on Amiga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Do special graphics where editors do not exist on c64 on PC/Mac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Pixel c64-Graphics with Timanthes or Elitepaint (Win)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29"/>
                </a:solidFill>
                <a:latin typeface="Hoefler Text"/>
              </a:rPr>
              <a:t>Use PC-Programs to do tedious/impossible jobs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50" name=""/>
          <p:cNvSpPr/>
          <p:nvPr/>
        </p:nvSpPr>
        <p:spPr>
          <a:xfrm>
            <a:off x="3039480" y="1359000"/>
            <a:ext cx="3522600" cy="33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229"/>
                </a:solidFill>
                <a:latin typeface="Hoefler Text"/>
                <a:ea typeface="Hoefler Text"/>
              </a:rPr>
              <a:t>PC/Mac can be a great tool</a:t>
            </a:r>
            <a:endParaRPr b="0" lang="en-US" sz="22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Convert stuff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Various converters available for all kinds of graphics modes (konv</a:t>
            </a:r>
            <a:r>
              <a:rPr b="0" lang="en-US" sz="2400" spc="-1" strike="noStrike">
                <a:solidFill>
                  <a:srgbClr val="424229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.exe, BigVIC, Raydomat, ProjectOne, Timanthes etc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Be fair - Don’t just convert readymade pictures by others and hand them in for the compo!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ix errors on the c64, converting is never as good as hand-pixelling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Basic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Palette of 16 Colors, fixed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1 Char (Character) = 1 CPU-cycle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No direct adressing of pixel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Making graphics in special mod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Good coders WILL ask you to do graphics in 10x300 pixels with one new color every 5 characters and grey in all uneven lines - but only when the moon is full!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ince the limitations are normally very uncommon, editors usually don’t exist on c64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If possible, use Photoshop and other tools to emulate these features - be creative!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Making graphics in special mod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marL="529920" indent="-32904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Example: A texture with 3 colors in every line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992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992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992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29920" indent="-32904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olution: Use Photoshop with 3 layers filled with only lines of one color, mask them and paint in the masks in b/w with a 2-pixel wide brush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2984400" y="2705040"/>
            <a:ext cx="3568680" cy="240336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3"/>
          <a:stretch/>
        </p:blipFill>
        <p:spPr>
          <a:xfrm>
            <a:off x="2984400" y="2705040"/>
            <a:ext cx="3568680" cy="2403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Making graphics in special mod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Example 2: A sprite-logo (24 chars wide) with one new color every 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 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olution: Fill outlines with rasterbars, adjust remaining colors for needed additional fixes...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2451240" y="359424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Making graphics in special mod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066320" y="444240"/>
            <a:ext cx="5410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aking Sideborder GFX in</a:t>
            </a:r>
            <a:br>
              <a:rPr sz="2800"/>
            </a:b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Photoshop for lack of a</a:t>
            </a:r>
            <a:br>
              <a:rPr sz="2800"/>
            </a:b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uitable Editor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6388200" y="2374920"/>
            <a:ext cx="2539800" cy="409572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3"/>
          <a:stretch/>
        </p:blipFill>
        <p:spPr>
          <a:xfrm>
            <a:off x="1627200" y="3759120"/>
            <a:ext cx="4303800" cy="27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Screendesign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676160" y="3276720"/>
            <a:ext cx="8178840" cy="4140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21600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424229"/>
                </a:solidFill>
                <a:latin typeface="Arial"/>
                <a:ea typeface="Arial"/>
              </a:rPr>
              <a:t>Version 1                        Version 2  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21600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42422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424229"/>
                </a:solidFill>
                <a:latin typeface="Arial"/>
                <a:ea typeface="Arial"/>
              </a:rPr>
              <a:t>Version 3                        Final part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1663560" y="1625760"/>
            <a:ext cx="2938680" cy="214632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3"/>
          <a:stretch/>
        </p:blipFill>
        <p:spPr>
          <a:xfrm>
            <a:off x="5549760" y="1635120"/>
            <a:ext cx="2908440" cy="212400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4"/>
          <a:stretch/>
        </p:blipFill>
        <p:spPr>
          <a:xfrm>
            <a:off x="5524560" y="4411800"/>
            <a:ext cx="2971800" cy="211428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5"/>
          <a:stretch/>
        </p:blipFill>
        <p:spPr>
          <a:xfrm>
            <a:off x="1625760" y="4405320"/>
            <a:ext cx="3022560" cy="2149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Pattern-making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63280" y="5575320"/>
            <a:ext cx="8178840" cy="990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Use Photoshop Functions to make background-patterns etc.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2793960" y="1854360"/>
            <a:ext cx="5079960" cy="101592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2641680" y="3873600"/>
            <a:ext cx="5384880" cy="111744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 rot="5400000">
            <a:off x="4819320" y="3206520"/>
            <a:ext cx="838440" cy="393840"/>
          </a:xfrm>
          <a:prstGeom prst="rightArrow">
            <a:avLst>
              <a:gd name="adj1" fmla="val 33333"/>
              <a:gd name="adj2" fmla="val 125801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The End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Thank you for watching!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Glossary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ulticolor FLI: also called “FLI”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ulticolor Bitmap: also called “Koala”, “Amicapaint”, “Paintmagic”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IFLI: Also “Funpaint”, “FLI Interlace”, FLInt or “Gunpaint”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Hires-FLI: Also called “Hi-FLI” or “AFLI”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545760"/>
            <a:ext cx="817884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marL="63360" indent="0" algn="ctr">
              <a:lnSpc>
                <a:spcPct val="100000"/>
              </a:lnSpc>
              <a:buNone/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329"/>
                </a:solidFill>
                <a:latin typeface="Hoefler Text"/>
              </a:rPr>
              <a:t>Some important VIC-Registers you should remember:</a:t>
            </a:r>
            <a:endParaRPr b="0" lang="en-US" sz="36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$d020: Border color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$d021: Screen color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$d022/23: Multicolor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$d016: X-shift Register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$d012: Rasterbeam counter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$d011: Good for a great many things (VIC-tricks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Lingo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5207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7000"/>
          </a:bodyPr>
          <a:p>
            <a:pPr marL="552600" indent="-3430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“</a:t>
            </a: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Char”: One 8x8 pixel block (doesn’t matter if it’s actually char-mode!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52600" indent="-3430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“</a:t>
            </a: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SB”: Most Significant Bit: To cover overflow of an x/y value above $ff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52600" indent="-3430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“</a:t>
            </a: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Border”: The “outer safe frame” area surrounding the screen (made to compensate for various different TVs and monitors)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52600" indent="-3430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“</a:t>
            </a: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Koala”: synonymous for Multicolor Bitmap, named after a program called “Koala Painter”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Displaying Graphic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tandard Bitmap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Character Set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Sprites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Advanced (but fairly useless) Stuff: Ghost-Byte, $d016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Graphic Modes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67920" y="2057400"/>
            <a:ext cx="8178840" cy="4470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marL="541080" indent="-335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Hires: square Pixels: two colors, 8x8 pixels/char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41080" indent="-335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Multicolor: 2 bpp, four colors : 4x8 pixels/char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410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$d021: Bitpattern </a:t>
            </a:r>
            <a:r>
              <a:rPr b="0" lang="en-US" sz="2400" spc="-1" strike="noStrike">
                <a:solidFill>
                  <a:srgbClr val="424229"/>
                </a:solidFill>
                <a:latin typeface="Arial Black"/>
                <a:ea typeface="Arial Black"/>
              </a:rPr>
              <a:t>00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marL="5410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$d022/Hi-Nibble (ScreenRAM): Bitpattern </a:t>
            </a:r>
            <a:r>
              <a:rPr b="0" lang="en-US" sz="2400" spc="-1" strike="noStrike">
                <a:solidFill>
                  <a:srgbClr val="424229"/>
                </a:solidFill>
                <a:latin typeface="Arial Black"/>
                <a:ea typeface="Arial Black"/>
              </a:rPr>
              <a:t>01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marL="5410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$d023/Low-Nibble (ScreenRAM): Bitpattern </a:t>
            </a:r>
            <a:r>
              <a:rPr b="0" lang="en-US" sz="2400" spc="-1" strike="noStrike">
                <a:solidFill>
                  <a:srgbClr val="424229"/>
                </a:solidFill>
                <a:latin typeface="Arial Black"/>
                <a:ea typeface="Arial Black"/>
              </a:rPr>
              <a:t>10</a:t>
            </a:r>
            <a:endParaRPr b="0" lang="en-US" sz="2400" spc="-1" strike="noStrike">
              <a:solidFill>
                <a:srgbClr val="424229"/>
              </a:solidFill>
              <a:latin typeface="Hoefler Text"/>
            </a:endParaRPr>
          </a:p>
          <a:p>
            <a:pPr marL="541080"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$d800 (”ColorRAM”): Bitpattern </a:t>
            </a:r>
            <a:r>
              <a:rPr b="0" lang="en-US" sz="2400" spc="-1" strike="noStrike">
                <a:solidFill>
                  <a:srgbClr val="424229"/>
                </a:solidFill>
                <a:latin typeface="Arial Black"/>
                <a:ea typeface="Arial Black"/>
              </a:rPr>
              <a:t>11</a:t>
            </a: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 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8305920" y="1333440"/>
            <a:ext cx="1079280" cy="1079640"/>
            <a:chOff x="8305920" y="1333440"/>
            <a:chExt cx="1079280" cy="1079640"/>
          </a:xfrm>
        </p:grpSpPr>
        <p:sp>
          <p:nvSpPr>
            <p:cNvPr id="430" name=""/>
            <p:cNvSpPr/>
            <p:nvPr/>
          </p:nvSpPr>
          <p:spPr>
            <a:xfrm>
              <a:off x="8305920" y="1333440"/>
              <a:ext cx="1328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38760" y="1333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573760" y="1333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708760" y="1333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843760" y="1333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978760" y="1333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113760" y="1333440"/>
              <a:ext cx="136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250200" y="1333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05920" y="1468440"/>
              <a:ext cx="1328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38760" y="1468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573760" y="1468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08760" y="1468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843760" y="1468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978760" y="1468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113760" y="1468440"/>
              <a:ext cx="136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250200" y="146844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1603440"/>
              <a:ext cx="13284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38760" y="1603440"/>
              <a:ext cx="13464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573760" y="1603440"/>
              <a:ext cx="13464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708760" y="1603440"/>
              <a:ext cx="13464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843760" y="1603440"/>
              <a:ext cx="13464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978760" y="1603440"/>
              <a:ext cx="13464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113760" y="1603440"/>
              <a:ext cx="13608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250200" y="1603440"/>
              <a:ext cx="13464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05920" y="1738080"/>
              <a:ext cx="1328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438760" y="173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573760" y="173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708760" y="173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843760" y="173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978760" y="173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13760" y="1738080"/>
              <a:ext cx="136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250200" y="173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05920" y="1873080"/>
              <a:ext cx="1328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38760" y="187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73760" y="187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08760" y="187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43760" y="187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978760" y="187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113760" y="1873080"/>
              <a:ext cx="136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250200" y="187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920" y="2008080"/>
              <a:ext cx="1328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38760" y="200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573760" y="200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08760" y="200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43760" y="200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978760" y="200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113760" y="2008080"/>
              <a:ext cx="136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250200" y="200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05920" y="2143080"/>
              <a:ext cx="1328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38760" y="214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73760" y="214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708760" y="214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843760" y="214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978760" y="214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113760" y="2143080"/>
              <a:ext cx="136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250200" y="2143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05920" y="2278080"/>
              <a:ext cx="1328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38760" y="227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573760" y="227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708760" y="227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843760" y="227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978760" y="227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113760" y="2278080"/>
              <a:ext cx="136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250200" y="2278080"/>
              <a:ext cx="134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843760" y="173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708760" y="227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843760" y="1333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843760" y="1468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843760" y="1603440"/>
              <a:ext cx="0" cy="1346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843760" y="187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843760" y="200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843760" y="214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843760" y="227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978760" y="1333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978760" y="1468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978760" y="1603440"/>
              <a:ext cx="0" cy="1346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978760" y="173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978760" y="187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978760" y="200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978760" y="214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978760" y="227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113760" y="1333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113760" y="1468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113760" y="1603440"/>
              <a:ext cx="0" cy="1346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13760" y="173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113760" y="187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113760" y="200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13760" y="214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13760" y="227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250200" y="1333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250200" y="1468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250200" y="1603440"/>
              <a:ext cx="0" cy="1346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250200" y="173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250200" y="187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250200" y="200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250200" y="214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250200" y="227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05920" y="1468440"/>
              <a:ext cx="1328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38760" y="1468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573760" y="1468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708760" y="1468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843760" y="1468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978760" y="1468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113760" y="1468440"/>
              <a:ext cx="136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250200" y="1468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05920" y="1603440"/>
              <a:ext cx="1328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438760" y="160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573760" y="160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708760" y="160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843760" y="160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978760" y="160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113760" y="1603440"/>
              <a:ext cx="136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250200" y="160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05920" y="1738080"/>
              <a:ext cx="1328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438760" y="173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573760" y="173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08760" y="173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843760" y="173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978760" y="173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113760" y="1738080"/>
              <a:ext cx="136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250200" y="173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05920" y="1873080"/>
              <a:ext cx="1328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38760" y="187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573760" y="187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708760" y="187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843760" y="187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978760" y="187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13760" y="1873080"/>
              <a:ext cx="136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50200" y="187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05920" y="2008080"/>
              <a:ext cx="1328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38760" y="200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73760" y="200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708760" y="200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843760" y="200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978760" y="200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113760" y="2008080"/>
              <a:ext cx="136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250200" y="200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05920" y="2143080"/>
              <a:ext cx="1328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38760" y="214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73760" y="214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708760" y="214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843760" y="214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978760" y="214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13760" y="2143080"/>
              <a:ext cx="136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250200" y="214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305920" y="2278080"/>
              <a:ext cx="1328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438760" y="227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573760" y="227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708760" y="227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43760" y="227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978760" y="227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113760" y="2278080"/>
              <a:ext cx="136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250200" y="2278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438760" y="1333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38760" y="1468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38760" y="1603440"/>
              <a:ext cx="0" cy="1346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438760" y="173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438760" y="187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438760" y="200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38760" y="214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438760" y="227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73760" y="1333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573760" y="1468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573760" y="1603440"/>
              <a:ext cx="0" cy="1346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573760" y="173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573760" y="187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573760" y="200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573760" y="214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573760" y="227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708760" y="1333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708760" y="1468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708760" y="1603440"/>
              <a:ext cx="0" cy="1346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708760" y="173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708760" y="187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708760" y="200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708760" y="214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385200" y="200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573760" y="133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708760" y="133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43760" y="133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978760" y="133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113760" y="1333440"/>
              <a:ext cx="136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250200" y="133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385200" y="214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385200" y="227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385200" y="1333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385200" y="1468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385200" y="1603440"/>
              <a:ext cx="0" cy="1346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385200" y="173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05920" y="2413080"/>
              <a:ext cx="1328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38760" y="241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573760" y="241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708760" y="241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843760" y="241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978760" y="241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113760" y="2413080"/>
              <a:ext cx="136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250200" y="241308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305920" y="1333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305920" y="1468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05920" y="1603440"/>
              <a:ext cx="0" cy="1346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305920" y="173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305920" y="187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05920" y="200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05920" y="214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05920" y="2278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05920" y="1333440"/>
              <a:ext cx="1328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385200" y="18730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438760" y="1333440"/>
              <a:ext cx="134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8305920" y="3162240"/>
            <a:ext cx="1079280" cy="1079640"/>
            <a:chOff x="8305920" y="3162240"/>
            <a:chExt cx="1079280" cy="1079640"/>
          </a:xfrm>
        </p:grpSpPr>
        <p:sp>
          <p:nvSpPr>
            <p:cNvPr id="639" name=""/>
            <p:cNvSpPr/>
            <p:nvPr/>
          </p:nvSpPr>
          <p:spPr>
            <a:xfrm>
              <a:off x="8305920" y="3162240"/>
              <a:ext cx="2696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575560" y="3162240"/>
              <a:ext cx="2692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845200" y="3162240"/>
              <a:ext cx="2682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113760" y="3162240"/>
              <a:ext cx="2710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05920" y="3295440"/>
              <a:ext cx="269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575560" y="3295440"/>
              <a:ext cx="2692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845200" y="3295440"/>
              <a:ext cx="2682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113760" y="3295440"/>
              <a:ext cx="271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05920" y="3430440"/>
              <a:ext cx="269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575560" y="3430440"/>
              <a:ext cx="2692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845200" y="3430440"/>
              <a:ext cx="2682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113760" y="3430440"/>
              <a:ext cx="271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05920" y="3565440"/>
              <a:ext cx="269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575560" y="3565440"/>
              <a:ext cx="2692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845200" y="3565440"/>
              <a:ext cx="2682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113760" y="3565440"/>
              <a:ext cx="271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05920" y="3700440"/>
              <a:ext cx="269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575560" y="3700440"/>
              <a:ext cx="2692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845200" y="3700440"/>
              <a:ext cx="2682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113760" y="3700440"/>
              <a:ext cx="271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05920" y="3835440"/>
              <a:ext cx="269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575560" y="3835440"/>
              <a:ext cx="2692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845200" y="3835440"/>
              <a:ext cx="2682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113760" y="3835440"/>
              <a:ext cx="271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05920" y="3970440"/>
              <a:ext cx="2696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575560" y="3970440"/>
              <a:ext cx="2692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845200" y="3970440"/>
              <a:ext cx="2682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113760" y="3970440"/>
              <a:ext cx="2710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305920" y="4106880"/>
              <a:ext cx="2696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575560" y="4106880"/>
              <a:ext cx="2692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845200" y="4106880"/>
              <a:ext cx="26820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13760" y="4106880"/>
              <a:ext cx="2710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845200" y="383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113760" y="4106880"/>
              <a:ext cx="271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575560" y="3162240"/>
              <a:ext cx="0" cy="1332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575560" y="329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575560" y="3430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575560" y="356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575560" y="3700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575560" y="383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75560" y="3970440"/>
              <a:ext cx="0" cy="1364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575560" y="41068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845200" y="3162240"/>
              <a:ext cx="0" cy="1332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845200" y="329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45200" y="3430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845200" y="356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845200" y="3700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845200" y="3970440"/>
              <a:ext cx="0" cy="1364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845200" y="41068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113760" y="3162240"/>
              <a:ext cx="0" cy="1332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113760" y="329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113760" y="3430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113760" y="356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113760" y="3700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113760" y="383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113760" y="3970440"/>
              <a:ext cx="0" cy="1364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113760" y="41068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05920" y="3295440"/>
              <a:ext cx="269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75560" y="3295440"/>
              <a:ext cx="2692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845200" y="3295440"/>
              <a:ext cx="26820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113760" y="3295440"/>
              <a:ext cx="271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05920" y="3430440"/>
              <a:ext cx="269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575560" y="3430440"/>
              <a:ext cx="2692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845200" y="3430440"/>
              <a:ext cx="26820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113760" y="3430440"/>
              <a:ext cx="271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05920" y="3565440"/>
              <a:ext cx="269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575560" y="3565440"/>
              <a:ext cx="2692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845200" y="3565440"/>
              <a:ext cx="26820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113760" y="3565440"/>
              <a:ext cx="271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05920" y="3700440"/>
              <a:ext cx="269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575560" y="3700440"/>
              <a:ext cx="2692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845200" y="3700440"/>
              <a:ext cx="26820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113760" y="3700440"/>
              <a:ext cx="271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305920" y="3835440"/>
              <a:ext cx="269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575560" y="3835440"/>
              <a:ext cx="2692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845200" y="3835440"/>
              <a:ext cx="26820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113760" y="3835440"/>
              <a:ext cx="271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05920" y="3970440"/>
              <a:ext cx="269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75560" y="3970440"/>
              <a:ext cx="2692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845200" y="3970440"/>
              <a:ext cx="26820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13760" y="3970440"/>
              <a:ext cx="271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305920" y="4106880"/>
              <a:ext cx="269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575560" y="4106880"/>
              <a:ext cx="2692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845200" y="4106880"/>
              <a:ext cx="26820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385200" y="356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845200" y="3162240"/>
              <a:ext cx="26820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113760" y="3162240"/>
              <a:ext cx="271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385200" y="3700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385200" y="383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305920" y="3162240"/>
              <a:ext cx="269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385200" y="3970440"/>
              <a:ext cx="0" cy="1364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385200" y="41068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385200" y="3162240"/>
              <a:ext cx="0" cy="1332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385200" y="329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305920" y="4241880"/>
              <a:ext cx="26964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575560" y="4241880"/>
              <a:ext cx="2692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845200" y="4241880"/>
              <a:ext cx="26820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113760" y="4241880"/>
              <a:ext cx="2710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305920" y="3162240"/>
              <a:ext cx="0" cy="1332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05920" y="329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05920" y="3430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05920" y="356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305920" y="3700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305920" y="3835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305920" y="3970440"/>
              <a:ext cx="0" cy="13644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305920" y="410688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9385200" y="3430440"/>
              <a:ext cx="0" cy="13500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575560" y="3162240"/>
              <a:ext cx="269280" cy="0"/>
            </a:xfrm>
            <a:prstGeom prst="line">
              <a:avLst/>
            </a:prstGeom>
            <a:ln cap="sq" w="25560">
              <a:solidFill>
                <a:srgbClr val="4242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24229"/>
                </a:solidFill>
                <a:latin typeface="Hoefler Text"/>
              </a:endParaRPr>
            </a:p>
          </p:txBody>
        </p:sp>
      </p:grpSp>
      <p:sp>
        <p:nvSpPr>
          <p:cNvPr id="747" name=""/>
          <p:cNvSpPr/>
          <p:nvPr/>
        </p:nvSpPr>
        <p:spPr>
          <a:xfrm flipH="1">
            <a:off x="7314840" y="1790640"/>
            <a:ext cx="762120" cy="0"/>
          </a:xfrm>
          <a:prstGeom prst="line">
            <a:avLst/>
          </a:prstGeom>
          <a:ln w="63360">
            <a:solidFill>
              <a:srgbClr val="42422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48" name=""/>
          <p:cNvSpPr/>
          <p:nvPr/>
        </p:nvSpPr>
        <p:spPr>
          <a:xfrm>
            <a:off x="7340760" y="1797120"/>
            <a:ext cx="0" cy="323640"/>
          </a:xfrm>
          <a:prstGeom prst="line">
            <a:avLst/>
          </a:prstGeom>
          <a:ln w="50760">
            <a:solidFill>
              <a:srgbClr val="4242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49" name=""/>
          <p:cNvSpPr/>
          <p:nvPr/>
        </p:nvSpPr>
        <p:spPr>
          <a:xfrm>
            <a:off x="7327800" y="3397320"/>
            <a:ext cx="0" cy="322200"/>
          </a:xfrm>
          <a:prstGeom prst="line">
            <a:avLst/>
          </a:prstGeom>
          <a:ln w="50760">
            <a:solidFill>
              <a:srgbClr val="4242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7302600" y="3683160"/>
            <a:ext cx="761760" cy="0"/>
          </a:xfrm>
          <a:prstGeom prst="line">
            <a:avLst/>
          </a:prstGeom>
          <a:ln w="63360">
            <a:solidFill>
              <a:srgbClr val="42422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229"/>
                </a:solidFill>
                <a:latin typeface="Hoefler Text"/>
              </a:rPr>
              <a:t>Standard Bitmap</a:t>
            </a:r>
            <a:endParaRPr b="0" lang="en-US" sz="5000" spc="-1" strike="noStrike">
              <a:solidFill>
                <a:srgbClr val="424229"/>
              </a:solidFill>
              <a:latin typeface="Hoefler Tex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69880" indent="-353880">
              <a:lnSpc>
                <a:spcPct val="100000"/>
              </a:lnSpc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Hires 320*200, Multicolor 160*200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Divided into 40*25 Chars (8*8 Hires-pixels),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char-sequential: no linear adressing!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8000 Bytes = $2kb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Fixed positions in RAM: $0000, $2000 etc.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  <a:p>
            <a:pPr marL="569880" indent="-353880">
              <a:lnSpc>
                <a:spcPct val="100000"/>
              </a:lnSpc>
              <a:spcBef>
                <a:spcPts val="2701"/>
              </a:spcBef>
              <a:buClr>
                <a:srgbClr val="424229"/>
              </a:buClr>
              <a:buSzPct val="125000"/>
              <a:buFont typeface="Lucida Grande"/>
              <a:buChar char="•"/>
              <a:tabLst>
                <a:tab algn="l" pos="10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29"/>
                </a:solidFill>
                <a:latin typeface="Hoefler Text"/>
              </a:rPr>
              <a:t>Changeable by bank-switching</a:t>
            </a:r>
            <a:endParaRPr b="0" lang="en-US" sz="2800" spc="-1" strike="noStrike">
              <a:solidFill>
                <a:srgbClr val="424229"/>
              </a:solidFill>
              <a:latin typeface="Hoefler Text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